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92000" y="836280"/>
            <a:ext cx="52830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Arial"/>
                <a:ea typeface="宋体"/>
              </a:rPr>
              <a:t>百分数</a:t>
            </a: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TextBox 3"/>
          <p:cNvSpPr/>
          <p:nvPr/>
        </p:nvSpPr>
        <p:spPr>
          <a:xfrm>
            <a:off x="34920" y="1986120"/>
            <a:ext cx="7850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求一个数的百分之几是多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（百分数化分数、小数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5" descr="\\192.168.1.3\临时中转站1_以本人姓名建目录\开发中心-多媒体部\02美术部\晨会文件\04宁煌\人教数学教参\06.png"/>
          <p:cNvPicPr/>
          <p:nvPr/>
        </p:nvPicPr>
        <p:blipFill>
          <a:blip r:embed="rId2"/>
          <a:stretch/>
        </p:blipFill>
        <p:spPr>
          <a:xfrm>
            <a:off x="684360" y="942840"/>
            <a:ext cx="785520" cy="78588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1528920" y="371628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44920" y="393228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知识应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3" name="TextBox 14"/>
          <p:cNvSpPr/>
          <p:nvPr/>
        </p:nvSpPr>
        <p:spPr>
          <a:xfrm>
            <a:off x="395280" y="1484280"/>
            <a:ext cx="10009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城关一中和城关二中的男生人数分别占全校学生总数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城关一中有学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人，城关二中有学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5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人，哪个学校的男生多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多多少人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5"/>
          <p:cNvSpPr/>
          <p:nvPr/>
        </p:nvSpPr>
        <p:spPr>
          <a:xfrm>
            <a:off x="1692360" y="2852640"/>
            <a:ext cx="6408720" cy="27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城关一中男生人数：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800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52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%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416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（人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城关二中男生人数：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750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54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%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405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（人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         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416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人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＞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405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         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416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405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1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（人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答：城关一中的男生多，多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1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知识应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296" name="Picture 5" descr="C:\Documents and Settings\Administrator\Local Settings\Temporary Internet Files\Content.IE5\8IQW10N4\MP900448438[1].jpg"/>
          <p:cNvPicPr/>
          <p:nvPr/>
        </p:nvPicPr>
        <p:blipFill>
          <a:blip r:embed="rId2"/>
          <a:stretch/>
        </p:blipFill>
        <p:spPr>
          <a:xfrm>
            <a:off x="6620040" y="1557360"/>
            <a:ext cx="2523960" cy="2017800"/>
          </a:xfrm>
          <a:prstGeom prst="rect">
            <a:avLst/>
          </a:prstGeom>
          <a:ln w="0">
            <a:noFill/>
          </a:ln>
        </p:spPr>
      </p:pic>
      <p:sp>
        <p:nvSpPr>
          <p:cNvPr id="297" name="TextBox 14"/>
          <p:cNvSpPr/>
          <p:nvPr/>
        </p:nvSpPr>
        <p:spPr>
          <a:xfrm>
            <a:off x="639720" y="1452600"/>
            <a:ext cx="66690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.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明喝一杯牛奶，先喝了这杯牛奶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加满水后又喝了这杯牛奶的    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最后加满水喝完。小明喝的水多，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牛奶多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5651640" y="1773360"/>
            <a:ext cx="511200" cy="1005840"/>
            <a:chOff x="5651640" y="1773360"/>
            <a:chExt cx="511200" cy="1005840"/>
          </a:xfrm>
        </p:grpSpPr>
        <p:sp>
          <p:nvSpPr>
            <p:cNvPr id="299" name=""/>
            <p:cNvSpPr/>
            <p:nvPr/>
          </p:nvSpPr>
          <p:spPr>
            <a:xfrm>
              <a:off x="5658120" y="2173320"/>
              <a:ext cx="50472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651640" y="1773360"/>
              <a:ext cx="36036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707080" y="2314800"/>
              <a:ext cx="252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3708360" y="3860640"/>
            <a:ext cx="4464000" cy="1838160"/>
            <a:chOff x="3708360" y="3860640"/>
            <a:chExt cx="4464000" cy="1838160"/>
          </a:xfrm>
        </p:grpSpPr>
        <p:sp>
          <p:nvSpPr>
            <p:cNvPr id="303" name="TextBox 22"/>
            <p:cNvSpPr/>
            <p:nvPr/>
          </p:nvSpPr>
          <p:spPr>
            <a:xfrm>
              <a:off x="3708360" y="3958920"/>
              <a:ext cx="44640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             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25</a:t>
              </a: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  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30</a:t>
              </a: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%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＋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25</a:t>
              </a: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%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55</a:t>
              </a: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          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1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＞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55</a:t>
              </a: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小明喝的牛奶多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405320" y="421632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398840" y="3860640"/>
              <a:ext cx="360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443480" y="4279680"/>
              <a:ext cx="2523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324000" y="3860640"/>
            <a:ext cx="3671280" cy="1798560"/>
            <a:chOff x="324000" y="3860640"/>
            <a:chExt cx="3671280" cy="1798560"/>
          </a:xfrm>
        </p:grpSpPr>
        <p:sp>
          <p:nvSpPr>
            <p:cNvPr id="308" name="AutoShape 27"/>
            <p:cNvSpPr/>
            <p:nvPr/>
          </p:nvSpPr>
          <p:spPr>
            <a:xfrm>
              <a:off x="1763640" y="3931920"/>
              <a:ext cx="2231640" cy="574920"/>
            </a:xfrm>
            <a:prstGeom prst="wedgeRoundRectCallout">
              <a:avLst>
                <a:gd name="adj1" fmla="val -64365"/>
                <a:gd name="adj2" fmla="val 3397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我是这样想的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9" name="" descr=""/>
            <p:cNvPicPr/>
            <p:nvPr/>
          </p:nvPicPr>
          <p:blipFill>
            <a:blip r:embed="rId3"/>
            <a:stretch/>
          </p:blipFill>
          <p:spPr>
            <a:xfrm>
              <a:off x="324000" y="3860640"/>
              <a:ext cx="1428480" cy="1798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四、布置作业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1" name="TextBox 5"/>
          <p:cNvSpPr/>
          <p:nvPr/>
        </p:nvSpPr>
        <p:spPr>
          <a:xfrm>
            <a:off x="611280" y="2205000"/>
            <a:ext cx="74167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作业：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8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页做一做，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8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页练习十八，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8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页练习十八，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复习旧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684360" y="1557360"/>
            <a:ext cx="6624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把下面各数改成百分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1287360" y="2467080"/>
            <a:ext cx="1657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.0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1422360" y="3332160"/>
            <a:ext cx="1224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1143000" y="4398840"/>
            <a:ext cx="1512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00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7"/>
          <p:cNvSpPr/>
          <p:nvPr/>
        </p:nvSpPr>
        <p:spPr>
          <a:xfrm>
            <a:off x="1619280" y="5516640"/>
            <a:ext cx="1440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3"/>
          <p:cNvSpPr/>
          <p:nvPr/>
        </p:nvSpPr>
        <p:spPr>
          <a:xfrm>
            <a:off x="4884840" y="2362320"/>
            <a:ext cx="1152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7"/>
          <p:cNvSpPr/>
          <p:nvPr/>
        </p:nvSpPr>
        <p:spPr>
          <a:xfrm>
            <a:off x="4908600" y="3303720"/>
            <a:ext cx="1152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4"/>
          <p:cNvSpPr/>
          <p:nvPr/>
        </p:nvSpPr>
        <p:spPr>
          <a:xfrm>
            <a:off x="4933800" y="4325760"/>
            <a:ext cx="1150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1"/>
          <p:cNvSpPr/>
          <p:nvPr/>
        </p:nvSpPr>
        <p:spPr>
          <a:xfrm>
            <a:off x="5013360" y="5445000"/>
            <a:ext cx="1150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6"/>
          <p:cNvSpPr/>
          <p:nvPr/>
        </p:nvSpPr>
        <p:spPr>
          <a:xfrm>
            <a:off x="2116080" y="2457360"/>
            <a:ext cx="1511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7"/>
          <p:cNvSpPr/>
          <p:nvPr/>
        </p:nvSpPr>
        <p:spPr>
          <a:xfrm>
            <a:off x="2087640" y="3303720"/>
            <a:ext cx="1366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50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8"/>
          <p:cNvSpPr/>
          <p:nvPr/>
        </p:nvSpPr>
        <p:spPr>
          <a:xfrm>
            <a:off x="2071800" y="4384800"/>
            <a:ext cx="1800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00.4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9"/>
          <p:cNvSpPr/>
          <p:nvPr/>
        </p:nvSpPr>
        <p:spPr>
          <a:xfrm>
            <a:off x="2109960" y="5506920"/>
            <a:ext cx="1223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800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40"/>
          <p:cNvSpPr/>
          <p:nvPr/>
        </p:nvSpPr>
        <p:spPr>
          <a:xfrm>
            <a:off x="5210280" y="2349360"/>
            <a:ext cx="2087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41"/>
          <p:cNvSpPr/>
          <p:nvPr/>
        </p:nvSpPr>
        <p:spPr>
          <a:xfrm>
            <a:off x="5219640" y="3335400"/>
            <a:ext cx="1944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75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42"/>
          <p:cNvSpPr/>
          <p:nvPr/>
        </p:nvSpPr>
        <p:spPr>
          <a:xfrm>
            <a:off x="5235480" y="4349880"/>
            <a:ext cx="1800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87.5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43"/>
          <p:cNvSpPr/>
          <p:nvPr/>
        </p:nvSpPr>
        <p:spPr>
          <a:xfrm>
            <a:off x="5283360" y="5454720"/>
            <a:ext cx="1150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8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643280" y="2205000"/>
            <a:ext cx="511200" cy="778680"/>
            <a:chOff x="4643280" y="2205000"/>
            <a:chExt cx="511200" cy="778680"/>
          </a:xfrm>
        </p:grpSpPr>
        <p:sp>
          <p:nvSpPr>
            <p:cNvPr id="62" name=""/>
            <p:cNvSpPr/>
            <p:nvPr/>
          </p:nvSpPr>
          <p:spPr>
            <a:xfrm>
              <a:off x="4649760" y="256068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643280" y="2205000"/>
              <a:ext cx="360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687560" y="2624040"/>
              <a:ext cx="252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643280" y="3141720"/>
            <a:ext cx="511200" cy="778680"/>
            <a:chOff x="4643280" y="3141720"/>
            <a:chExt cx="511200" cy="778680"/>
          </a:xfrm>
        </p:grpSpPr>
        <p:sp>
          <p:nvSpPr>
            <p:cNvPr id="66" name=""/>
            <p:cNvSpPr/>
            <p:nvPr/>
          </p:nvSpPr>
          <p:spPr>
            <a:xfrm>
              <a:off x="4649760" y="349740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643280" y="3141720"/>
              <a:ext cx="360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687560" y="3560760"/>
              <a:ext cx="252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4662360" y="4140360"/>
            <a:ext cx="511200" cy="778320"/>
            <a:chOff x="4662360" y="4140360"/>
            <a:chExt cx="511200" cy="778320"/>
          </a:xfrm>
        </p:grpSpPr>
        <p:sp>
          <p:nvSpPr>
            <p:cNvPr id="70" name=""/>
            <p:cNvSpPr/>
            <p:nvPr/>
          </p:nvSpPr>
          <p:spPr>
            <a:xfrm>
              <a:off x="4668840" y="449568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662360" y="4140360"/>
              <a:ext cx="360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706640" y="4559040"/>
              <a:ext cx="252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4638600" y="5299200"/>
            <a:ext cx="504720" cy="778320"/>
            <a:chOff x="4638600" y="5299200"/>
            <a:chExt cx="504720" cy="778320"/>
          </a:xfrm>
        </p:grpSpPr>
        <p:sp>
          <p:nvSpPr>
            <p:cNvPr id="74" name=""/>
            <p:cNvSpPr/>
            <p:nvPr/>
          </p:nvSpPr>
          <p:spPr>
            <a:xfrm>
              <a:off x="4638600" y="565452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27520" y="5299200"/>
              <a:ext cx="360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05200" y="571788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528920" y="371628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44920" y="393228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60560" y="414828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76560" y="436392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679320" y="1425600"/>
            <a:ext cx="8280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春蕾小学的一项调查表明，有牙病的学生人数占全校人数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春蕾小学共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名学生，有牙病的学生有多少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24000" y="3213000"/>
            <a:ext cx="4692600" cy="1487520"/>
            <a:chOff x="324000" y="3213000"/>
            <a:chExt cx="4692600" cy="1487520"/>
          </a:xfrm>
        </p:grpSpPr>
        <p:pic>
          <p:nvPicPr>
            <p:cNvPr id="84" name="Picture 20" descr="男天使副本"/>
            <p:cNvPicPr/>
            <p:nvPr/>
          </p:nvPicPr>
          <p:blipFill>
            <a:blip r:embed="rId2"/>
            <a:stretch/>
          </p:blipFill>
          <p:spPr>
            <a:xfrm>
              <a:off x="324000" y="3286080"/>
              <a:ext cx="152388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AutoShape 27"/>
            <p:cNvSpPr/>
            <p:nvPr/>
          </p:nvSpPr>
          <p:spPr>
            <a:xfrm>
              <a:off x="1992600" y="3213000"/>
              <a:ext cx="3024000" cy="1368360"/>
            </a:xfrm>
            <a:prstGeom prst="wedgeRoundRectCallout">
              <a:avLst>
                <a:gd name="adj1" fmla="val -59712"/>
                <a:gd name="adj2" fmla="val 3596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求一个数的百分之几和求一个数的几分之几，意义是一样的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284720" y="3789360"/>
            <a:ext cx="4548240" cy="2664000"/>
            <a:chOff x="4284720" y="3789360"/>
            <a:chExt cx="4548240" cy="2664000"/>
          </a:xfrm>
        </p:grpSpPr>
        <p:pic>
          <p:nvPicPr>
            <p:cNvPr id="87" name="Picture 16" descr="女天使"/>
            <p:cNvPicPr/>
            <p:nvPr/>
          </p:nvPicPr>
          <p:blipFill>
            <a:blip r:embed="rId3"/>
            <a:stretch/>
          </p:blipFill>
          <p:spPr>
            <a:xfrm>
              <a:off x="7309080" y="3789360"/>
              <a:ext cx="15238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AutoShape 27"/>
            <p:cNvSpPr/>
            <p:nvPr/>
          </p:nvSpPr>
          <p:spPr>
            <a:xfrm>
              <a:off x="4284720" y="4724280"/>
              <a:ext cx="3208320" cy="1729080"/>
            </a:xfrm>
            <a:prstGeom prst="wedgeRoundRectCallout">
              <a:avLst>
                <a:gd name="adj1" fmla="val 55787"/>
                <a:gd name="adj2" fmla="val -3824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5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%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该怎样计算呢？自己先动笔试着算一算，然后和同桌交流一下你的想法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1528920" y="371628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679320" y="1425600"/>
            <a:ext cx="8280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春蕾小学的一项调查表明，有牙病的学生人数占全校人数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春蕾小学共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名学生，有牙病的学生有多少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0" y="2876400"/>
            <a:ext cx="4578480" cy="1800360"/>
            <a:chOff x="0" y="2876400"/>
            <a:chExt cx="4578480" cy="1800360"/>
          </a:xfrm>
        </p:grpSpPr>
        <p:sp>
          <p:nvSpPr>
            <p:cNvPr id="93" name="AutoShape 27"/>
            <p:cNvSpPr/>
            <p:nvPr/>
          </p:nvSpPr>
          <p:spPr>
            <a:xfrm>
              <a:off x="1338120" y="3092400"/>
              <a:ext cx="3240360" cy="1295280"/>
            </a:xfrm>
            <a:prstGeom prst="wedgeRoundRectCallout">
              <a:avLst>
                <a:gd name="adj1" fmla="val -59944"/>
                <a:gd name="adj2" fmla="val -1151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我把百分数改写成分母是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的分数，再直接写成小数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0" y="2876400"/>
              <a:ext cx="1122480" cy="180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539640" y="4343400"/>
            <a:ext cx="4319640" cy="1986480"/>
            <a:chOff x="539640" y="4343400"/>
            <a:chExt cx="4319640" cy="1986480"/>
          </a:xfrm>
        </p:grpSpPr>
        <p:sp>
          <p:nvSpPr>
            <p:cNvPr id="96" name="TextBox 10"/>
            <p:cNvSpPr/>
            <p:nvPr/>
          </p:nvSpPr>
          <p:spPr>
            <a:xfrm>
              <a:off x="539640" y="4343400"/>
              <a:ext cx="4319640" cy="198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Arial"/>
                  <a:ea typeface="宋体"/>
                </a:rPr>
                <a:t>        </a:t>
              </a:r>
              <a:r>
                <a:rPr b="0" lang="en-US" sz="1800" spc="-1" strike="noStrike">
                  <a:solidFill>
                    <a:srgbClr val="0000cc"/>
                  </a:solidFill>
                  <a:latin typeface="Arial"/>
                  <a:ea typeface="宋体"/>
                </a:rPr>
                <a:t>750</a:t>
              </a: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×</a:t>
              </a:r>
              <a:r>
                <a:rPr b="0" lang="en-US" sz="1800" spc="-1" strike="noStrike">
                  <a:solidFill>
                    <a:srgbClr val="0000cc"/>
                  </a:solidFill>
                  <a:latin typeface="Arial"/>
                  <a:ea typeface="宋体"/>
                </a:rPr>
                <a:t>20</a:t>
              </a:r>
              <a:r>
                <a:rPr b="0" lang="en-US" sz="1800" spc="-1" strike="noStrike">
                  <a:solidFill>
                    <a:srgbClr val="0000cc"/>
                  </a:solidFill>
                  <a:latin typeface="Times New Roman"/>
                  <a:ea typeface="宋体"/>
                </a:rPr>
                <a:t>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Arial"/>
                  <a:ea typeface="宋体"/>
                </a:rPr>
                <a:t>    </a:t>
              </a:r>
              <a:r>
                <a:rPr b="0" lang="zh-CN" sz="1800" spc="-1" strike="noStrike">
                  <a:solidFill>
                    <a:srgbClr val="0000cc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cc"/>
                  </a:solidFill>
                  <a:latin typeface="Arial"/>
                  <a:ea typeface="宋体"/>
                </a:rPr>
                <a:t>750</a:t>
              </a: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Arial"/>
                  <a:ea typeface="宋体"/>
                </a:rPr>
                <a:t>    </a:t>
              </a:r>
              <a:r>
                <a:rPr b="0" lang="zh-CN" sz="1800" spc="-1" strike="noStrike">
                  <a:solidFill>
                    <a:srgbClr val="0000cc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cc"/>
                  </a:solidFill>
                  <a:latin typeface="Arial"/>
                  <a:ea typeface="宋体"/>
                </a:rPr>
                <a:t>750</a:t>
              </a: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×</a:t>
              </a:r>
              <a:r>
                <a:rPr b="0" lang="en-US" sz="1800" spc="-1" strike="noStrike">
                  <a:solidFill>
                    <a:srgbClr val="0000cc"/>
                  </a:solidFill>
                  <a:latin typeface="Arial"/>
                  <a:ea typeface="宋体"/>
                </a:rPr>
                <a:t>0.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Arial"/>
                  <a:ea typeface="宋体"/>
                </a:rPr>
                <a:t>    </a:t>
              </a:r>
              <a:r>
                <a:rPr b="0" lang="zh-CN" sz="1800" spc="-1" strike="noStrike">
                  <a:solidFill>
                    <a:srgbClr val="0000cc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cc"/>
                  </a:solidFill>
                  <a:latin typeface="Arial"/>
                  <a:ea typeface="宋体"/>
                </a:rPr>
                <a:t>150</a:t>
              </a:r>
              <a:r>
                <a:rPr b="0" lang="zh-CN" sz="1800" spc="-1" strike="noStrike">
                  <a:solidFill>
                    <a:srgbClr val="0000cc"/>
                  </a:solidFill>
                  <a:latin typeface="Arial"/>
                  <a:ea typeface="宋体"/>
                </a:rPr>
                <a:t>（人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cc"/>
                  </a:solidFill>
                  <a:latin typeface="Arial"/>
                  <a:ea typeface="宋体"/>
                </a:rPr>
                <a:t>答：有牙病的学生有</a:t>
              </a:r>
              <a:r>
                <a:rPr b="0" lang="en-US" sz="1800" spc="-1" strike="noStrike">
                  <a:solidFill>
                    <a:srgbClr val="0000cc"/>
                  </a:solidFill>
                  <a:latin typeface="Arial"/>
                  <a:ea typeface="宋体"/>
                </a:rPr>
                <a:t>150</a:t>
              </a:r>
              <a:r>
                <a:rPr b="0" lang="zh-CN" sz="1800" spc="-1" strike="noStrike">
                  <a:solidFill>
                    <a:srgbClr val="0000cc"/>
                  </a:solidFill>
                  <a:latin typeface="Arial"/>
                  <a:ea typeface="宋体"/>
                </a:rPr>
                <a:t>人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744560" y="4714920"/>
              <a:ext cx="847800" cy="778680"/>
              <a:chOff x="1744560" y="4714920"/>
              <a:chExt cx="847800" cy="778680"/>
            </a:xfrm>
          </p:grpSpPr>
          <p:sp>
            <p:nvSpPr>
              <p:cNvPr id="98" name=""/>
              <p:cNvSpPr/>
              <p:nvPr/>
            </p:nvSpPr>
            <p:spPr>
              <a:xfrm>
                <a:off x="1744560" y="5070600"/>
                <a:ext cx="7142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</a:rPr>
                  <a:t>1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34920" y="4714920"/>
                <a:ext cx="7574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</a:rPr>
                  <a:t>2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879560" y="5133960"/>
                <a:ext cx="360360" cy="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" name=""/>
          <p:cNvGrpSpPr/>
          <p:nvPr/>
        </p:nvGrpSpPr>
        <p:grpSpPr>
          <a:xfrm>
            <a:off x="4716360" y="2565360"/>
            <a:ext cx="4427640" cy="1798560"/>
            <a:chOff x="4716360" y="2565360"/>
            <a:chExt cx="4427640" cy="1798560"/>
          </a:xfrm>
        </p:grpSpPr>
        <p:sp>
          <p:nvSpPr>
            <p:cNvPr id="102" name="AutoShape 27"/>
            <p:cNvSpPr/>
            <p:nvPr/>
          </p:nvSpPr>
          <p:spPr>
            <a:xfrm>
              <a:off x="4716360" y="2636640"/>
              <a:ext cx="2998800" cy="1368720"/>
            </a:xfrm>
            <a:prstGeom prst="wedgeRoundRectCallout">
              <a:avLst>
                <a:gd name="adj1" fmla="val 60587"/>
                <a:gd name="adj2" fmla="val -1705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我把百分数改写成分母是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的分数，直接用分数乘法计算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7715160" y="2565360"/>
              <a:ext cx="1428840" cy="1798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4" name=""/>
          <p:cNvGrpSpPr/>
          <p:nvPr/>
        </p:nvGrpSpPr>
        <p:grpSpPr>
          <a:xfrm>
            <a:off x="4714920" y="4156200"/>
            <a:ext cx="3960720" cy="2287800"/>
            <a:chOff x="4714920" y="4156200"/>
            <a:chExt cx="3960720" cy="2287800"/>
          </a:xfrm>
        </p:grpSpPr>
        <p:sp>
          <p:nvSpPr>
            <p:cNvPr id="105" name="TextBox 16"/>
            <p:cNvSpPr/>
            <p:nvPr/>
          </p:nvSpPr>
          <p:spPr>
            <a:xfrm>
              <a:off x="4714920" y="4156200"/>
              <a:ext cx="3960720" cy="22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     </a:t>
              </a:r>
              <a:r>
                <a:rPr b="0" lang="en-US" sz="1800" spc="-1" strike="noStrike">
                  <a:solidFill>
                    <a:srgbClr val="0000cc"/>
                  </a:solidFill>
                  <a:latin typeface="Arial"/>
                  <a:ea typeface="宋体"/>
                </a:rPr>
                <a:t>750</a:t>
              </a: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×</a:t>
              </a:r>
              <a:r>
                <a:rPr b="0" lang="en-US" sz="1800" spc="-1" strike="noStrike">
                  <a:solidFill>
                    <a:srgbClr val="0000cc"/>
                  </a:solidFill>
                  <a:latin typeface="Arial"/>
                  <a:ea typeface="宋体"/>
                </a:rPr>
                <a:t>20</a:t>
              </a:r>
              <a:r>
                <a:rPr b="0" lang="en-US" sz="1800" spc="-1" strike="noStrike">
                  <a:solidFill>
                    <a:srgbClr val="0000cc"/>
                  </a:solidFill>
                  <a:latin typeface="Times New Roman"/>
                  <a:ea typeface="宋体"/>
                </a:rPr>
                <a:t>%</a:t>
              </a:r>
              <a:r>
                <a:rPr b="0" lang="en-US" sz="1800" spc="-1" strike="noStrike">
                  <a:solidFill>
                    <a:srgbClr val="0000cc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cc"/>
                  </a:solidFill>
                  <a:latin typeface="Arial"/>
                  <a:ea typeface="宋体"/>
                </a:rPr>
                <a:t>     </a:t>
              </a:r>
              <a:r>
                <a:rPr b="0" lang="zh-CN" sz="1800" spc="-1" strike="noStrike">
                  <a:solidFill>
                    <a:srgbClr val="0000cc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cc"/>
                  </a:solidFill>
                  <a:latin typeface="Arial"/>
                  <a:ea typeface="宋体"/>
                </a:rPr>
                <a:t>750</a:t>
              </a: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Arial"/>
                  <a:ea typeface="宋体"/>
                </a:rPr>
                <a:t>     </a:t>
              </a:r>
              <a:r>
                <a:rPr b="0" lang="zh-CN" sz="1800" spc="-1" strike="noStrike">
                  <a:solidFill>
                    <a:srgbClr val="0000cc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cc"/>
                  </a:solidFill>
                  <a:latin typeface="Arial"/>
                  <a:ea typeface="宋体"/>
                </a:rPr>
                <a:t>750</a:t>
              </a: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Arial"/>
                  <a:ea typeface="宋体"/>
                </a:rPr>
                <a:t>     </a:t>
              </a:r>
              <a:r>
                <a:rPr b="0" lang="zh-CN" sz="1800" spc="-1" strike="noStrike">
                  <a:solidFill>
                    <a:srgbClr val="0000cc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cc"/>
                  </a:solidFill>
                  <a:latin typeface="Arial"/>
                  <a:ea typeface="宋体"/>
                </a:rPr>
                <a:t>150</a:t>
              </a:r>
              <a:r>
                <a:rPr b="0" lang="zh-CN" sz="1800" spc="-1" strike="noStrike">
                  <a:solidFill>
                    <a:srgbClr val="0000cc"/>
                  </a:solidFill>
                  <a:latin typeface="Arial"/>
                  <a:ea typeface="宋体"/>
                </a:rPr>
                <a:t>（人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答：有牙病的学生有</a:t>
              </a:r>
              <a:r>
                <a:rPr b="0" lang="en-US" sz="1800" spc="-1" strike="noStrike">
                  <a:solidFill>
                    <a:srgbClr val="0000cc"/>
                  </a:solidFill>
                  <a:latin typeface="Arial"/>
                  <a:ea typeface="宋体"/>
                </a:rPr>
                <a:t>150</a:t>
              </a:r>
              <a:r>
                <a:rPr b="0" lang="zh-CN" sz="1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人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5972400" y="4600800"/>
              <a:ext cx="847080" cy="778680"/>
              <a:chOff x="5972400" y="4600800"/>
              <a:chExt cx="847080" cy="778680"/>
            </a:xfrm>
          </p:grpSpPr>
          <p:sp>
            <p:nvSpPr>
              <p:cNvPr id="107" name=""/>
              <p:cNvSpPr/>
              <p:nvPr/>
            </p:nvSpPr>
            <p:spPr>
              <a:xfrm>
                <a:off x="5972400" y="4956480"/>
                <a:ext cx="7138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</a:rPr>
                  <a:t>1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062400" y="4600800"/>
                <a:ext cx="7570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</a:rPr>
                  <a:t>2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107040" y="5019840"/>
                <a:ext cx="360000" cy="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6035760" y="5143680"/>
              <a:ext cx="511200" cy="778680"/>
              <a:chOff x="6035760" y="5143680"/>
              <a:chExt cx="511200" cy="778680"/>
            </a:xfrm>
          </p:grpSpPr>
          <p:sp>
            <p:nvSpPr>
              <p:cNvPr id="111" name=""/>
              <p:cNvSpPr/>
              <p:nvPr/>
            </p:nvSpPr>
            <p:spPr>
              <a:xfrm>
                <a:off x="6042240" y="549936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35760" y="514368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080040" y="5562720"/>
                <a:ext cx="252720" cy="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95280" y="1628640"/>
            <a:ext cx="5719680" cy="1800360"/>
            <a:chOff x="395280" y="1628640"/>
            <a:chExt cx="5719680" cy="1800360"/>
          </a:xfrm>
        </p:grpSpPr>
        <p:sp>
          <p:nvSpPr>
            <p:cNvPr id="116" name="AutoShape 27"/>
            <p:cNvSpPr/>
            <p:nvPr/>
          </p:nvSpPr>
          <p:spPr>
            <a:xfrm>
              <a:off x="1657440" y="1792080"/>
              <a:ext cx="4457520" cy="552600"/>
            </a:xfrm>
            <a:prstGeom prst="wedgeRoundRectCallout">
              <a:avLst>
                <a:gd name="adj1" fmla="val -55092"/>
                <a:gd name="adj2" fmla="val 4712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想一想，怎样把百分数化成小数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2"/>
            <a:stretch/>
          </p:blipFill>
          <p:spPr>
            <a:xfrm>
              <a:off x="395280" y="1628640"/>
              <a:ext cx="1122480" cy="180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" name=""/>
          <p:cNvGrpSpPr/>
          <p:nvPr/>
        </p:nvGrpSpPr>
        <p:grpSpPr>
          <a:xfrm>
            <a:off x="2124000" y="1557360"/>
            <a:ext cx="6564240" cy="2663280"/>
            <a:chOff x="2124000" y="1557360"/>
            <a:chExt cx="6564240" cy="2663280"/>
          </a:xfrm>
        </p:grpSpPr>
        <p:pic>
          <p:nvPicPr>
            <p:cNvPr id="119" name="Picture 16" descr="女天使"/>
            <p:cNvPicPr/>
            <p:nvPr/>
          </p:nvPicPr>
          <p:blipFill>
            <a:blip r:embed="rId3"/>
            <a:stretch/>
          </p:blipFill>
          <p:spPr>
            <a:xfrm>
              <a:off x="7164360" y="1557360"/>
              <a:ext cx="1523880" cy="127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AutoShape 27"/>
            <p:cNvSpPr/>
            <p:nvPr/>
          </p:nvSpPr>
          <p:spPr>
            <a:xfrm>
              <a:off x="2124000" y="2491920"/>
              <a:ext cx="5224320" cy="1728720"/>
            </a:xfrm>
            <a:prstGeom prst="wedgeRoundRectCallout">
              <a:avLst>
                <a:gd name="adj1" fmla="val 53555"/>
                <a:gd name="adj2" fmla="val -3824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可以先把百分数写成分母是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的分数，然后再把分数化成小数。（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）可以先把百分号去掉，同时把小数点向左移动两位，位数不够时，用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”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补足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3851280" y="4292640"/>
            <a:ext cx="4906800" cy="1798560"/>
            <a:chOff x="3851280" y="4292640"/>
            <a:chExt cx="4906800" cy="1798560"/>
          </a:xfrm>
        </p:grpSpPr>
        <p:sp>
          <p:nvSpPr>
            <p:cNvPr id="122" name="AutoShape 27"/>
            <p:cNvSpPr/>
            <p:nvPr/>
          </p:nvSpPr>
          <p:spPr>
            <a:xfrm>
              <a:off x="3851280" y="4363920"/>
              <a:ext cx="3719520" cy="576360"/>
            </a:xfrm>
            <a:prstGeom prst="wedgeRoundRectCallout">
              <a:avLst>
                <a:gd name="adj1" fmla="val 55462"/>
                <a:gd name="adj2" fmla="val 2988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怎样把百分数化成分数呢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3" name="" descr=""/>
            <p:cNvPicPr/>
            <p:nvPr/>
          </p:nvPicPr>
          <p:blipFill>
            <a:blip r:embed="rId4"/>
            <a:stretch/>
          </p:blipFill>
          <p:spPr>
            <a:xfrm>
              <a:off x="7329600" y="4292640"/>
              <a:ext cx="1428480" cy="1798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4" name=""/>
          <p:cNvGrpSpPr/>
          <p:nvPr/>
        </p:nvGrpSpPr>
        <p:grpSpPr>
          <a:xfrm>
            <a:off x="179280" y="5183280"/>
            <a:ext cx="6624720" cy="1414440"/>
            <a:chOff x="179280" y="5183280"/>
            <a:chExt cx="6624720" cy="1414440"/>
          </a:xfrm>
        </p:grpSpPr>
        <p:pic>
          <p:nvPicPr>
            <p:cNvPr id="125" name="Picture 20" descr="男天使副本"/>
            <p:cNvPicPr/>
            <p:nvPr/>
          </p:nvPicPr>
          <p:blipFill>
            <a:blip r:embed="rId5"/>
            <a:stretch/>
          </p:blipFill>
          <p:spPr>
            <a:xfrm>
              <a:off x="179280" y="5183280"/>
              <a:ext cx="152388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AutoShape 27"/>
            <p:cNvSpPr/>
            <p:nvPr/>
          </p:nvSpPr>
          <p:spPr>
            <a:xfrm>
              <a:off x="1908000" y="5183280"/>
              <a:ext cx="4896000" cy="1368360"/>
            </a:xfrm>
            <a:prstGeom prst="wedgeRoundRectCallout">
              <a:avLst>
                <a:gd name="adj1" fmla="val -56000"/>
                <a:gd name="adj2" fmla="val 3596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百分数化成分数的方法：先把百分数改写成分母是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的分数，然后能约分的要约成最简分数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知识应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628560" y="1557360"/>
            <a:ext cx="7056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把下面的百分数改成小数和分数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971640" y="2637000"/>
            <a:ext cx="2160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97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1120680" y="4048200"/>
            <a:ext cx="2592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7"/>
          <p:cNvSpPr/>
          <p:nvPr/>
        </p:nvSpPr>
        <p:spPr>
          <a:xfrm>
            <a:off x="949320" y="5416560"/>
            <a:ext cx="2448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.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5"/>
          <p:cNvSpPr/>
          <p:nvPr/>
        </p:nvSpPr>
        <p:spPr>
          <a:xfrm>
            <a:off x="4915080" y="2608200"/>
            <a:ext cx="2160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4803840" y="5438880"/>
            <a:ext cx="3600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6.7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844640" y="2470320"/>
            <a:ext cx="1563840" cy="778320"/>
            <a:chOff x="1844640" y="2470320"/>
            <a:chExt cx="1563840" cy="778320"/>
          </a:xfrm>
        </p:grpSpPr>
        <p:sp>
          <p:nvSpPr>
            <p:cNvPr id="135" name="矩形 39"/>
            <p:cNvSpPr/>
            <p:nvPr/>
          </p:nvSpPr>
          <p:spPr>
            <a:xfrm>
              <a:off x="1844640" y="2641320"/>
              <a:ext cx="8161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0.97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2583000" y="2470320"/>
              <a:ext cx="825480" cy="778320"/>
              <a:chOff x="2583000" y="2470320"/>
              <a:chExt cx="825480" cy="778320"/>
            </a:xfrm>
          </p:grpSpPr>
          <p:sp>
            <p:nvSpPr>
              <p:cNvPr id="137" name=""/>
              <p:cNvSpPr/>
              <p:nvPr/>
            </p:nvSpPr>
            <p:spPr>
              <a:xfrm>
                <a:off x="2583000" y="2825640"/>
                <a:ext cx="7142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1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651400" y="2470320"/>
                <a:ext cx="7570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9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695680" y="2889000"/>
                <a:ext cx="36036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0" name=""/>
          <p:cNvGrpSpPr/>
          <p:nvPr/>
        </p:nvGrpSpPr>
        <p:grpSpPr>
          <a:xfrm>
            <a:off x="5765760" y="2409840"/>
            <a:ext cx="1278000" cy="778680"/>
            <a:chOff x="5765760" y="2409840"/>
            <a:chExt cx="1278000" cy="778680"/>
          </a:xfrm>
        </p:grpSpPr>
        <p:sp>
          <p:nvSpPr>
            <p:cNvPr id="141" name="矩形 47"/>
            <p:cNvSpPr/>
            <p:nvPr/>
          </p:nvSpPr>
          <p:spPr>
            <a:xfrm>
              <a:off x="5765760" y="2589120"/>
              <a:ext cx="8161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0.25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6532560" y="2409840"/>
              <a:ext cx="511200" cy="778680"/>
              <a:chOff x="6532560" y="2409840"/>
              <a:chExt cx="511200" cy="778680"/>
            </a:xfrm>
          </p:grpSpPr>
          <p:sp>
            <p:nvSpPr>
              <p:cNvPr id="143" name=""/>
              <p:cNvSpPr/>
              <p:nvPr/>
            </p:nvSpPr>
            <p:spPr>
              <a:xfrm>
                <a:off x="6539040" y="276552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532560" y="240984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576840" y="2828880"/>
                <a:ext cx="25272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6" name=""/>
          <p:cNvGrpSpPr/>
          <p:nvPr/>
        </p:nvGrpSpPr>
        <p:grpSpPr>
          <a:xfrm>
            <a:off x="1865160" y="3860640"/>
            <a:ext cx="1266840" cy="778680"/>
            <a:chOff x="1865160" y="3860640"/>
            <a:chExt cx="1266840" cy="778680"/>
          </a:xfrm>
        </p:grpSpPr>
        <p:sp>
          <p:nvSpPr>
            <p:cNvPr id="147" name="矩形 42"/>
            <p:cNvSpPr/>
            <p:nvPr/>
          </p:nvSpPr>
          <p:spPr>
            <a:xfrm>
              <a:off x="1865160" y="4038480"/>
              <a:ext cx="8161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0.08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2627280" y="3860640"/>
              <a:ext cx="504720" cy="778680"/>
              <a:chOff x="2627280" y="3860640"/>
              <a:chExt cx="504720" cy="778680"/>
            </a:xfrm>
          </p:grpSpPr>
          <p:sp>
            <p:nvSpPr>
              <p:cNvPr id="149" name=""/>
              <p:cNvSpPr/>
              <p:nvPr/>
            </p:nvSpPr>
            <p:spPr>
              <a:xfrm>
                <a:off x="2627280" y="421632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2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693880" y="386064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693880" y="4279680"/>
                <a:ext cx="324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2" name=""/>
          <p:cNvGrpSpPr/>
          <p:nvPr/>
        </p:nvGrpSpPr>
        <p:grpSpPr>
          <a:xfrm>
            <a:off x="1878840" y="5251320"/>
            <a:ext cx="1740600" cy="778680"/>
            <a:chOff x="1878840" y="5251320"/>
            <a:chExt cx="1740600" cy="778680"/>
          </a:xfrm>
        </p:grpSpPr>
        <p:sp>
          <p:nvSpPr>
            <p:cNvPr id="153" name="矩形 44"/>
            <p:cNvSpPr/>
            <p:nvPr/>
          </p:nvSpPr>
          <p:spPr>
            <a:xfrm>
              <a:off x="1878840" y="5433840"/>
              <a:ext cx="9424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0.005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2738520" y="5251320"/>
              <a:ext cx="880920" cy="778680"/>
              <a:chOff x="2738520" y="5251320"/>
              <a:chExt cx="880920" cy="778680"/>
            </a:xfrm>
          </p:grpSpPr>
          <p:sp>
            <p:nvSpPr>
              <p:cNvPr id="155" name=""/>
              <p:cNvSpPr/>
              <p:nvPr/>
            </p:nvSpPr>
            <p:spPr>
              <a:xfrm>
                <a:off x="2738520" y="5607000"/>
                <a:ext cx="7142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2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862360" y="5251320"/>
                <a:ext cx="7570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851200" y="5670360"/>
                <a:ext cx="36036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8" name="TextBox 5"/>
          <p:cNvSpPr/>
          <p:nvPr/>
        </p:nvSpPr>
        <p:spPr>
          <a:xfrm>
            <a:off x="4788000" y="3976560"/>
            <a:ext cx="3529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2.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5861880" y="3789360"/>
            <a:ext cx="1410480" cy="778680"/>
            <a:chOff x="5861880" y="3789360"/>
            <a:chExt cx="1410480" cy="778680"/>
          </a:xfrm>
        </p:grpSpPr>
        <p:sp>
          <p:nvSpPr>
            <p:cNvPr id="160" name="矩形 47"/>
            <p:cNvSpPr/>
            <p:nvPr/>
          </p:nvSpPr>
          <p:spPr>
            <a:xfrm>
              <a:off x="5861880" y="3968640"/>
              <a:ext cx="9424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0.125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6761160" y="3789360"/>
              <a:ext cx="511200" cy="778680"/>
              <a:chOff x="6761160" y="3789360"/>
              <a:chExt cx="511200" cy="778680"/>
            </a:xfrm>
          </p:grpSpPr>
          <p:sp>
            <p:nvSpPr>
              <p:cNvPr id="162" name=""/>
              <p:cNvSpPr/>
              <p:nvPr/>
            </p:nvSpPr>
            <p:spPr>
              <a:xfrm>
                <a:off x="6767640" y="414504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761160" y="378936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805440" y="4208400"/>
                <a:ext cx="25272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" name=""/>
          <p:cNvGrpSpPr/>
          <p:nvPr/>
        </p:nvGrpSpPr>
        <p:grpSpPr>
          <a:xfrm>
            <a:off x="5884200" y="5284800"/>
            <a:ext cx="1827000" cy="768960"/>
            <a:chOff x="5884200" y="5284800"/>
            <a:chExt cx="1827000" cy="768960"/>
          </a:xfrm>
        </p:grpSpPr>
        <p:sp>
          <p:nvSpPr>
            <p:cNvPr id="166" name="矩形 50"/>
            <p:cNvSpPr/>
            <p:nvPr/>
          </p:nvSpPr>
          <p:spPr>
            <a:xfrm>
              <a:off x="5884200" y="5452920"/>
              <a:ext cx="9424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0.167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6654600" y="5284800"/>
              <a:ext cx="1056600" cy="768960"/>
              <a:chOff x="6654600" y="5284800"/>
              <a:chExt cx="1056600" cy="768960"/>
            </a:xfrm>
          </p:grpSpPr>
          <p:sp>
            <p:nvSpPr>
              <p:cNvPr id="168" name=""/>
              <p:cNvSpPr/>
              <p:nvPr/>
            </p:nvSpPr>
            <p:spPr>
              <a:xfrm>
                <a:off x="6654600" y="5630760"/>
                <a:ext cx="99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10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735240" y="5284800"/>
                <a:ext cx="9759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16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779520" y="5694480"/>
                <a:ext cx="50292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290520" y="2556000"/>
            <a:ext cx="7305840" cy="32382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知识应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3" name="TextBox 4"/>
          <p:cNvSpPr/>
          <p:nvPr/>
        </p:nvSpPr>
        <p:spPr>
          <a:xfrm>
            <a:off x="622440" y="1557360"/>
            <a:ext cx="8353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分别用百分数、小数、分数表示直线上各点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4"/>
          <p:cNvSpPr/>
          <p:nvPr/>
        </p:nvSpPr>
        <p:spPr>
          <a:xfrm>
            <a:off x="1438200" y="3763800"/>
            <a:ext cx="1079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5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1"/>
          <p:cNvSpPr/>
          <p:nvPr/>
        </p:nvSpPr>
        <p:spPr>
          <a:xfrm>
            <a:off x="1343160" y="5265720"/>
            <a:ext cx="1008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0.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2"/>
          <p:cNvSpPr/>
          <p:nvPr/>
        </p:nvSpPr>
        <p:spPr>
          <a:xfrm>
            <a:off x="2311560" y="5259240"/>
            <a:ext cx="936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3"/>
          <p:cNvSpPr/>
          <p:nvPr/>
        </p:nvSpPr>
        <p:spPr>
          <a:xfrm>
            <a:off x="3492360" y="3794040"/>
            <a:ext cx="1150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42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8"/>
          <p:cNvSpPr/>
          <p:nvPr/>
        </p:nvSpPr>
        <p:spPr>
          <a:xfrm>
            <a:off x="3559320" y="5259240"/>
            <a:ext cx="1008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0.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9"/>
          <p:cNvSpPr/>
          <p:nvPr/>
        </p:nvSpPr>
        <p:spPr>
          <a:xfrm>
            <a:off x="4489560" y="3786120"/>
            <a:ext cx="1441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58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24"/>
          <p:cNvSpPr/>
          <p:nvPr/>
        </p:nvSpPr>
        <p:spPr>
          <a:xfrm>
            <a:off x="4471920" y="5259240"/>
            <a:ext cx="1008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0.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25"/>
          <p:cNvSpPr/>
          <p:nvPr/>
        </p:nvSpPr>
        <p:spPr>
          <a:xfrm>
            <a:off x="5475240" y="3801960"/>
            <a:ext cx="863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75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30"/>
          <p:cNvSpPr/>
          <p:nvPr/>
        </p:nvSpPr>
        <p:spPr>
          <a:xfrm>
            <a:off x="5497560" y="5254560"/>
            <a:ext cx="1008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0.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31"/>
          <p:cNvSpPr/>
          <p:nvPr/>
        </p:nvSpPr>
        <p:spPr>
          <a:xfrm>
            <a:off x="6665760" y="3811680"/>
            <a:ext cx="865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95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6"/>
          <p:cNvSpPr/>
          <p:nvPr/>
        </p:nvSpPr>
        <p:spPr>
          <a:xfrm>
            <a:off x="6659640" y="5259240"/>
            <a:ext cx="1008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0.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476360" y="4344840"/>
            <a:ext cx="504720" cy="778680"/>
            <a:chOff x="1476360" y="4344840"/>
            <a:chExt cx="504720" cy="778680"/>
          </a:xfrm>
        </p:grpSpPr>
        <p:sp>
          <p:nvSpPr>
            <p:cNvPr id="186" name=""/>
            <p:cNvSpPr/>
            <p:nvPr/>
          </p:nvSpPr>
          <p:spPr>
            <a:xfrm>
              <a:off x="1476360" y="470052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42960" y="4344840"/>
              <a:ext cx="360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542960" y="4763880"/>
              <a:ext cx="324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3668760" y="4343400"/>
            <a:ext cx="504720" cy="778680"/>
            <a:chOff x="3668760" y="4343400"/>
            <a:chExt cx="504720" cy="778680"/>
          </a:xfrm>
        </p:grpSpPr>
        <p:sp>
          <p:nvSpPr>
            <p:cNvPr id="190" name=""/>
            <p:cNvSpPr/>
            <p:nvPr/>
          </p:nvSpPr>
          <p:spPr>
            <a:xfrm>
              <a:off x="3668760" y="469908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735360" y="4343400"/>
              <a:ext cx="360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735360" y="4762440"/>
              <a:ext cx="324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4583160" y="4361040"/>
            <a:ext cx="504720" cy="778320"/>
            <a:chOff x="4583160" y="4361040"/>
            <a:chExt cx="504720" cy="778320"/>
          </a:xfrm>
        </p:grpSpPr>
        <p:sp>
          <p:nvSpPr>
            <p:cNvPr id="194" name=""/>
            <p:cNvSpPr/>
            <p:nvPr/>
          </p:nvSpPr>
          <p:spPr>
            <a:xfrm>
              <a:off x="4583160" y="471636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591080" y="4361040"/>
              <a:ext cx="4762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649760" y="4779720"/>
              <a:ext cx="3603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5662440" y="4376880"/>
            <a:ext cx="511200" cy="778320"/>
            <a:chOff x="5662440" y="4376880"/>
            <a:chExt cx="511200" cy="778320"/>
          </a:xfrm>
        </p:grpSpPr>
        <p:sp>
          <p:nvSpPr>
            <p:cNvPr id="198" name=""/>
            <p:cNvSpPr/>
            <p:nvPr/>
          </p:nvSpPr>
          <p:spPr>
            <a:xfrm>
              <a:off x="5668920" y="473220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662440" y="4376880"/>
              <a:ext cx="360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706720" y="4795560"/>
              <a:ext cx="2527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6765840" y="4359240"/>
            <a:ext cx="504720" cy="778680"/>
            <a:chOff x="6765840" y="4359240"/>
            <a:chExt cx="504720" cy="778680"/>
          </a:xfrm>
        </p:grpSpPr>
        <p:sp>
          <p:nvSpPr>
            <p:cNvPr id="202" name=""/>
            <p:cNvSpPr/>
            <p:nvPr/>
          </p:nvSpPr>
          <p:spPr>
            <a:xfrm>
              <a:off x="6765840" y="471492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773760" y="4359240"/>
              <a:ext cx="4762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1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832440" y="4778280"/>
              <a:ext cx="3603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知识应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TextBox 5"/>
          <p:cNvSpPr/>
          <p:nvPr/>
        </p:nvSpPr>
        <p:spPr>
          <a:xfrm>
            <a:off x="395280" y="1413000"/>
            <a:ext cx="849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据医学测试，人静止不动时，从头部散失的热量很多。在穿得暖和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但不戴帽子，气温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5 ℃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时，从头部散失的热量占人体散失总热量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 ℃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时占     ，零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5 ℃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时占     。因此，有句俗话说“冬季戴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帽，如同穿棉袄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2532240" y="2254320"/>
            <a:ext cx="510480" cy="778680"/>
            <a:chOff x="2532240" y="2254320"/>
            <a:chExt cx="510480" cy="778680"/>
          </a:xfrm>
        </p:grpSpPr>
        <p:sp>
          <p:nvSpPr>
            <p:cNvPr id="208" name=""/>
            <p:cNvSpPr/>
            <p:nvPr/>
          </p:nvSpPr>
          <p:spPr>
            <a:xfrm>
              <a:off x="2538360" y="2610000"/>
              <a:ext cx="504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532240" y="2254320"/>
              <a:ext cx="3600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576160" y="2673360"/>
              <a:ext cx="252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4788000" y="2249640"/>
            <a:ext cx="511200" cy="778320"/>
            <a:chOff x="4788000" y="2249640"/>
            <a:chExt cx="511200" cy="778320"/>
          </a:xfrm>
        </p:grpSpPr>
        <p:sp>
          <p:nvSpPr>
            <p:cNvPr id="212" name=""/>
            <p:cNvSpPr/>
            <p:nvPr/>
          </p:nvSpPr>
          <p:spPr>
            <a:xfrm>
              <a:off x="4794480" y="260496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788000" y="2249640"/>
              <a:ext cx="360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832280" y="2668320"/>
              <a:ext cx="252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4356000" y="3213000"/>
            <a:ext cx="4524480" cy="1800360"/>
            <a:chOff x="4356000" y="3213000"/>
            <a:chExt cx="4524480" cy="1800360"/>
          </a:xfrm>
        </p:grpSpPr>
        <p:sp>
          <p:nvSpPr>
            <p:cNvPr id="216" name="AutoShape 27"/>
            <p:cNvSpPr/>
            <p:nvPr/>
          </p:nvSpPr>
          <p:spPr>
            <a:xfrm>
              <a:off x="4356000" y="3213000"/>
              <a:ext cx="3095640" cy="936720"/>
            </a:xfrm>
            <a:prstGeom prst="wedgeRoundRectCallout">
              <a:avLst>
                <a:gd name="adj1" fmla="val 60412"/>
                <a:gd name="adj2" fmla="val -84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上面的哪个气温时从头部散失的热量最多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7" name="" descr=""/>
            <p:cNvPicPr/>
            <p:nvPr/>
          </p:nvPicPr>
          <p:blipFill>
            <a:blip r:embed="rId2"/>
            <a:stretch/>
          </p:blipFill>
          <p:spPr>
            <a:xfrm>
              <a:off x="7451640" y="3214440"/>
              <a:ext cx="1428840" cy="179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8" name="矩形 45"/>
          <p:cNvSpPr/>
          <p:nvPr/>
        </p:nvSpPr>
        <p:spPr>
          <a:xfrm>
            <a:off x="938160" y="4797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614520" y="3429000"/>
            <a:ext cx="5010120" cy="2558160"/>
            <a:chOff x="614520" y="3429000"/>
            <a:chExt cx="5010120" cy="2558160"/>
          </a:xfrm>
        </p:grpSpPr>
        <p:sp>
          <p:nvSpPr>
            <p:cNvPr id="220" name="TextBox 59"/>
            <p:cNvSpPr/>
            <p:nvPr/>
          </p:nvSpPr>
          <p:spPr>
            <a:xfrm>
              <a:off x="657360" y="5564160"/>
              <a:ext cx="49672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答：零下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15</a:t>
              </a: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℃</a:t>
              </a:r>
              <a:r>
                <a:rPr b="0" lang="zh-CN" sz="18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时，头部散失的热量最多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614520" y="3429000"/>
              <a:ext cx="3743280" cy="1000080"/>
              <a:chOff x="614520" y="3429000"/>
              <a:chExt cx="3743280" cy="1000080"/>
            </a:xfrm>
          </p:grpSpPr>
          <p:sp>
            <p:nvSpPr>
              <p:cNvPr id="222" name="TextBox 22"/>
              <p:cNvSpPr/>
              <p:nvPr/>
            </p:nvSpPr>
            <p:spPr>
              <a:xfrm>
                <a:off x="614520" y="3567240"/>
                <a:ext cx="3743280" cy="86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0000"/>
                    </a:solidFill>
                    <a:latin typeface="宋体"/>
                    <a:ea typeface="宋体"/>
                  </a:rPr>
                  <a:t>方法一：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  <a:ea typeface="宋体"/>
                  </a:rPr>
                  <a:t>30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%</a:t>
                </a:r>
                <a:r>
                  <a:rPr b="0" lang="zh-CN" sz="2400" spc="-1" strike="noStrike">
                    <a:solidFill>
                      <a:srgbClr val="ff0000"/>
                    </a:solidFill>
                    <a:latin typeface="Arial"/>
                  </a:rPr>
                  <a:t>＝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533680" y="3784680"/>
                <a:ext cx="5050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600640" y="342900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617920" y="3848040"/>
                <a:ext cx="2872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1659240" y="4726080"/>
              <a:ext cx="2154960" cy="778680"/>
              <a:chOff x="1659240" y="4726080"/>
              <a:chExt cx="2154960" cy="778680"/>
            </a:xfrm>
          </p:grpSpPr>
          <p:sp>
            <p:nvSpPr>
              <p:cNvPr id="227" name=""/>
              <p:cNvSpPr/>
              <p:nvPr/>
            </p:nvSpPr>
            <p:spPr>
              <a:xfrm>
                <a:off x="2452680" y="5081760"/>
                <a:ext cx="504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8" name=""/>
              <p:cNvGrpSpPr/>
              <p:nvPr/>
            </p:nvGrpSpPr>
            <p:grpSpPr>
              <a:xfrm>
                <a:off x="1659240" y="4726080"/>
                <a:ext cx="2154960" cy="778680"/>
                <a:chOff x="1659240" y="4726080"/>
                <a:chExt cx="2154960" cy="778680"/>
              </a:xfrm>
            </p:grpSpPr>
            <p:grpSp>
              <p:nvGrpSpPr>
                <p:cNvPr id="229" name=""/>
                <p:cNvGrpSpPr/>
                <p:nvPr/>
              </p:nvGrpSpPr>
              <p:grpSpPr>
                <a:xfrm>
                  <a:off x="1659240" y="4726080"/>
                  <a:ext cx="2154960" cy="778680"/>
                  <a:chOff x="1659240" y="4726080"/>
                  <a:chExt cx="2154960" cy="778680"/>
                </a:xfrm>
              </p:grpSpPr>
              <p:sp>
                <p:nvSpPr>
                  <p:cNvPr id="230" name="矩形 58"/>
                  <p:cNvSpPr/>
                  <p:nvPr/>
                </p:nvSpPr>
                <p:spPr>
                  <a:xfrm>
                    <a:off x="3130560" y="4924440"/>
                    <a:ext cx="68364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0000"/>
                        </a:solidFill>
                        <a:latin typeface="Arial"/>
                        <a:ea typeface="宋体"/>
                      </a:rPr>
                      <a:t>30</a:t>
                    </a:r>
                    <a:r>
                      <a:rPr b="0" lang="en-US" sz="1800" spc="-1" strike="noStrike">
                        <a:solidFill>
                          <a:srgbClr val="ff0000"/>
                        </a:solidFill>
                        <a:latin typeface="Times New Roman"/>
                        <a:ea typeface="宋体"/>
                      </a:rPr>
                      <a:t>%</a:t>
                    </a:r>
                    <a:r>
                      <a:rPr b="0" lang="en-US" sz="1800" spc="-1" strike="noStrike">
                        <a:solidFill>
                          <a:srgbClr val="ff0000"/>
                        </a:solidFill>
                        <a:latin typeface="宋体"/>
                        <a:ea typeface="宋体"/>
                      </a:rPr>
                      <a:t>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1665360" y="5081760"/>
                    <a:ext cx="50436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0000"/>
                        </a:solidFill>
                        <a:latin typeface="Arial"/>
                      </a:rPr>
                      <a:t>4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1659240" y="4726080"/>
                    <a:ext cx="36000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0000"/>
                        </a:solidFill>
                        <a:latin typeface="Arial"/>
                      </a:rPr>
                      <a:t>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1703160" y="514512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2446200" y="4726080"/>
                    <a:ext cx="36000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0000"/>
                        </a:solidFill>
                        <a:latin typeface="Arial"/>
                      </a:rPr>
                      <a:t>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2490840" y="5145120"/>
                    <a:ext cx="252000" cy="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TextBox 51"/>
                  <p:cNvSpPr/>
                  <p:nvPr/>
                </p:nvSpPr>
                <p:spPr>
                  <a:xfrm>
                    <a:off x="1968480" y="4869000"/>
                    <a:ext cx="93636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0000"/>
                        </a:solidFill>
                        <a:latin typeface="Arial"/>
                      </a:rPr>
                      <a:t>＞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7" name="矩形 57"/>
                <p:cNvSpPr/>
                <p:nvPr/>
              </p:nvSpPr>
              <p:spPr>
                <a:xfrm>
                  <a:off x="2843640" y="4910400"/>
                  <a:ext cx="31788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0000"/>
                      </a:solidFill>
                      <a:latin typeface="Arial"/>
                    </a:rPr>
                    <a:t>＞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8" name=""/>
            <p:cNvGrpSpPr/>
            <p:nvPr/>
          </p:nvGrpSpPr>
          <p:grpSpPr>
            <a:xfrm>
              <a:off x="1641600" y="4006800"/>
              <a:ext cx="2000160" cy="788040"/>
              <a:chOff x="1641600" y="4006800"/>
              <a:chExt cx="2000160" cy="788040"/>
            </a:xfrm>
          </p:grpSpPr>
          <p:sp>
            <p:nvSpPr>
              <p:cNvPr id="239" name=""/>
              <p:cNvSpPr/>
              <p:nvPr/>
            </p:nvSpPr>
            <p:spPr>
              <a:xfrm>
                <a:off x="1648080" y="437184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641600" y="401616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685880" y="4435560"/>
                <a:ext cx="25272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435400" y="437184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428920" y="401616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473560" y="4435560"/>
                <a:ext cx="25236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TextBox 33"/>
              <p:cNvSpPr/>
              <p:nvPr/>
            </p:nvSpPr>
            <p:spPr>
              <a:xfrm>
                <a:off x="1974960" y="4146480"/>
                <a:ext cx="936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0000"/>
                    </a:solidFill>
                    <a:latin typeface="Arial"/>
                  </a:rPr>
                  <a:t>＞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矩形 39"/>
              <p:cNvSpPr/>
              <p:nvPr/>
            </p:nvSpPr>
            <p:spPr>
              <a:xfrm>
                <a:off x="2848680" y="4154400"/>
                <a:ext cx="3178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0000"/>
                    </a:solidFill>
                    <a:latin typeface="Arial"/>
                  </a:rPr>
                  <a:t>＞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137040" y="436248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203640" y="400680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221280" y="4425840"/>
                <a:ext cx="2872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知识应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395280" y="1413000"/>
            <a:ext cx="849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据医学测试，人静止不动时，从头部散失的热量很多。在穿得暖和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但不戴帽子，气温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5 ℃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时，从头部散失的热量占人体散失总热量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 ℃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时占     ，零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5 ℃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时占     。因此，有句俗话说“冬季戴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帽，如同穿棉袄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2532240" y="2254320"/>
            <a:ext cx="510480" cy="778680"/>
            <a:chOff x="2532240" y="2254320"/>
            <a:chExt cx="510480" cy="778680"/>
          </a:xfrm>
        </p:grpSpPr>
        <p:sp>
          <p:nvSpPr>
            <p:cNvPr id="253" name=""/>
            <p:cNvSpPr/>
            <p:nvPr/>
          </p:nvSpPr>
          <p:spPr>
            <a:xfrm>
              <a:off x="2538360" y="2610000"/>
              <a:ext cx="504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532240" y="2254320"/>
              <a:ext cx="3600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576160" y="2673360"/>
              <a:ext cx="252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4832280" y="2249640"/>
            <a:ext cx="511200" cy="778320"/>
            <a:chOff x="4832280" y="2249640"/>
            <a:chExt cx="511200" cy="778320"/>
          </a:xfrm>
        </p:grpSpPr>
        <p:sp>
          <p:nvSpPr>
            <p:cNvPr id="257" name=""/>
            <p:cNvSpPr/>
            <p:nvPr/>
          </p:nvSpPr>
          <p:spPr>
            <a:xfrm>
              <a:off x="4838760" y="260496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832280" y="2249640"/>
              <a:ext cx="360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876560" y="2668320"/>
              <a:ext cx="252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4619520" y="2997360"/>
            <a:ext cx="4524480" cy="1799640"/>
            <a:chOff x="4619520" y="2997360"/>
            <a:chExt cx="4524480" cy="1799640"/>
          </a:xfrm>
        </p:grpSpPr>
        <p:sp>
          <p:nvSpPr>
            <p:cNvPr id="261" name="AutoShape 27"/>
            <p:cNvSpPr/>
            <p:nvPr/>
          </p:nvSpPr>
          <p:spPr>
            <a:xfrm>
              <a:off x="4619520" y="2997360"/>
              <a:ext cx="3095640" cy="936360"/>
            </a:xfrm>
            <a:prstGeom prst="wedgeRoundRectCallout">
              <a:avLst>
                <a:gd name="adj1" fmla="val 60412"/>
                <a:gd name="adj2" fmla="val -84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上面的哪个气温时从头部散失的热量最多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2" name="" descr=""/>
            <p:cNvPicPr/>
            <p:nvPr/>
          </p:nvPicPr>
          <p:blipFill>
            <a:blip r:embed="rId2"/>
            <a:stretch/>
          </p:blipFill>
          <p:spPr>
            <a:xfrm>
              <a:off x="7715160" y="2998440"/>
              <a:ext cx="1428840" cy="179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3" name="矩形 45"/>
          <p:cNvSpPr/>
          <p:nvPr/>
        </p:nvSpPr>
        <p:spPr>
          <a:xfrm>
            <a:off x="6194520" y="6093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704880" y="3429000"/>
            <a:ext cx="6675480" cy="2299320"/>
            <a:chOff x="704880" y="3429000"/>
            <a:chExt cx="6675480" cy="2299320"/>
          </a:xfrm>
        </p:grpSpPr>
        <p:sp>
          <p:nvSpPr>
            <p:cNvPr id="265" name="TextBox 22"/>
            <p:cNvSpPr/>
            <p:nvPr/>
          </p:nvSpPr>
          <p:spPr>
            <a:xfrm>
              <a:off x="970200" y="4214880"/>
              <a:ext cx="64101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           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75</a:t>
              </a: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% 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＞  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60</a:t>
              </a: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%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＞  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30 </a:t>
              </a: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%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Box 59"/>
            <p:cNvSpPr/>
            <p:nvPr/>
          </p:nvSpPr>
          <p:spPr>
            <a:xfrm>
              <a:off x="704880" y="5305320"/>
              <a:ext cx="62658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答：零下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15</a:t>
              </a:r>
              <a:r>
                <a:rPr b="0" lang="en-US" sz="18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℃</a:t>
              </a:r>
              <a:r>
                <a:rPr b="0" lang="zh-CN" sz="18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时，头部散失的热量最多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矩形 2"/>
            <p:cNvSpPr/>
            <p:nvPr/>
          </p:nvSpPr>
          <p:spPr>
            <a:xfrm>
              <a:off x="916560" y="3560760"/>
              <a:ext cx="729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方法二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1806480" y="3429000"/>
              <a:ext cx="2890800" cy="778680"/>
              <a:chOff x="1806480" y="3429000"/>
              <a:chExt cx="2890800" cy="778680"/>
            </a:xfrm>
          </p:grpSpPr>
          <p:sp>
            <p:nvSpPr>
              <p:cNvPr id="269" name=""/>
              <p:cNvSpPr/>
              <p:nvPr/>
            </p:nvSpPr>
            <p:spPr>
              <a:xfrm>
                <a:off x="3112920" y="342900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0" name=""/>
              <p:cNvGrpSpPr/>
              <p:nvPr/>
            </p:nvGrpSpPr>
            <p:grpSpPr>
              <a:xfrm>
                <a:off x="1806480" y="3429000"/>
                <a:ext cx="2890800" cy="778680"/>
                <a:chOff x="1806480" y="3429000"/>
                <a:chExt cx="2890800" cy="77868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1812960" y="3784680"/>
                  <a:ext cx="50472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0000"/>
                      </a:solidFill>
                      <a:latin typeface="Arial"/>
                    </a:rPr>
                    <a:t>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1806480" y="3429000"/>
                  <a:ext cx="36036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1850760" y="3848040"/>
                  <a:ext cx="25272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2038320" y="3584520"/>
                  <a:ext cx="135252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0000"/>
                      </a:solidFill>
                      <a:latin typeface="Arial"/>
                    </a:rPr>
                    <a:t>＝</a:t>
                  </a:r>
                  <a:r>
                    <a:rPr b="0" lang="en-US" sz="1800" spc="-1" strike="noStrike">
                      <a:solidFill>
                        <a:srgbClr val="ff0000"/>
                      </a:solidFill>
                      <a:latin typeface="Arial"/>
                    </a:rPr>
                    <a:t>60</a:t>
                  </a:r>
                  <a:r>
                    <a:rPr b="0" lang="en-US" sz="1800" spc="-1" strike="noStrike">
                      <a:solidFill>
                        <a:srgbClr val="ff0000"/>
                      </a:solidFill>
                      <a:latin typeface="Times New Roman"/>
                      <a:ea typeface="宋体"/>
                    </a:rPr>
                    <a:t>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119400" y="3784680"/>
                  <a:ext cx="50472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0000"/>
                      </a:solidFill>
                      <a:latin typeface="Arial"/>
                    </a:rPr>
                    <a:t>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3157560" y="3848040"/>
                  <a:ext cx="25236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3344760" y="3584520"/>
                  <a:ext cx="135252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0000"/>
                      </a:solidFill>
                      <a:latin typeface="Arial"/>
                    </a:rPr>
                    <a:t>＝</a:t>
                  </a:r>
                  <a:r>
                    <a:rPr b="0" lang="en-US" sz="1800" spc="-1" strike="noStrike">
                      <a:solidFill>
                        <a:srgbClr val="ff0000"/>
                      </a:solidFill>
                      <a:latin typeface="Arial"/>
                    </a:rPr>
                    <a:t>75</a:t>
                  </a:r>
                  <a:r>
                    <a:rPr b="0" lang="en-US" sz="1800" spc="-1" strike="noStrike">
                      <a:solidFill>
                        <a:srgbClr val="ff0000"/>
                      </a:solidFill>
                      <a:latin typeface="Times New Roman"/>
                      <a:ea typeface="宋体"/>
                    </a:rPr>
                    <a:t>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"/>
            <p:cNvGrpSpPr/>
            <p:nvPr/>
          </p:nvGrpSpPr>
          <p:grpSpPr>
            <a:xfrm>
              <a:off x="1763640" y="4621320"/>
              <a:ext cx="2155680" cy="778320"/>
              <a:chOff x="1763640" y="4621320"/>
              <a:chExt cx="2155680" cy="778320"/>
            </a:xfrm>
          </p:grpSpPr>
          <p:grpSp>
            <p:nvGrpSpPr>
              <p:cNvPr id="279" name=""/>
              <p:cNvGrpSpPr/>
              <p:nvPr/>
            </p:nvGrpSpPr>
            <p:grpSpPr>
              <a:xfrm>
                <a:off x="1763640" y="4621320"/>
                <a:ext cx="2155680" cy="778320"/>
                <a:chOff x="1763640" y="4621320"/>
                <a:chExt cx="2155680" cy="778320"/>
              </a:xfrm>
            </p:grpSpPr>
            <p:sp>
              <p:nvSpPr>
                <p:cNvPr id="280" name="矩形 58"/>
                <p:cNvSpPr/>
                <p:nvPr/>
              </p:nvSpPr>
              <p:spPr>
                <a:xfrm>
                  <a:off x="3235680" y="4819320"/>
                  <a:ext cx="68364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0000"/>
                      </a:solidFill>
                      <a:latin typeface="Arial"/>
                      <a:ea typeface="宋体"/>
                    </a:rPr>
                    <a:t>30</a:t>
                  </a:r>
                  <a:r>
                    <a:rPr b="0" lang="en-US" sz="1800" spc="-1" strike="noStrike">
                      <a:solidFill>
                        <a:srgbClr val="ff0000"/>
                      </a:solidFill>
                      <a:latin typeface="Times New Roman"/>
                      <a:ea typeface="宋体"/>
                    </a:rPr>
                    <a:t>%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1770120" y="4976640"/>
                  <a:ext cx="50472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0000"/>
                      </a:solidFill>
                      <a:latin typeface="Arial"/>
                    </a:rPr>
                    <a:t>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1763640" y="4621320"/>
                  <a:ext cx="36036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1807920" y="5040000"/>
                  <a:ext cx="25272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2557440" y="4976640"/>
                  <a:ext cx="50472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0000"/>
                      </a:solidFill>
                      <a:latin typeface="Arial"/>
                    </a:rPr>
                    <a:t>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2550960" y="4621320"/>
                  <a:ext cx="36036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2595600" y="5040000"/>
                  <a:ext cx="25236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7" name="TextBox 51"/>
              <p:cNvSpPr/>
              <p:nvPr/>
            </p:nvSpPr>
            <p:spPr>
              <a:xfrm>
                <a:off x="2073240" y="4763880"/>
                <a:ext cx="5540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0000"/>
                    </a:solidFill>
                    <a:latin typeface="Arial"/>
                  </a:rPr>
                  <a:t>＞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矩形 57"/>
              <p:cNvSpPr/>
              <p:nvPr/>
            </p:nvSpPr>
            <p:spPr>
              <a:xfrm>
                <a:off x="2948400" y="4805280"/>
                <a:ext cx="3178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0000"/>
                    </a:solidFill>
                    <a:latin typeface="Arial"/>
                  </a:rPr>
                  <a:t>＞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9" name=""/>
          <p:cNvGrpSpPr/>
          <p:nvPr/>
        </p:nvGrpSpPr>
        <p:grpSpPr>
          <a:xfrm>
            <a:off x="5076720" y="4724280"/>
            <a:ext cx="4067280" cy="1703520"/>
            <a:chOff x="5076720" y="4724280"/>
            <a:chExt cx="4067280" cy="1703520"/>
          </a:xfrm>
        </p:grpSpPr>
        <p:sp>
          <p:nvSpPr>
            <p:cNvPr id="290" name="AutoShape 27"/>
            <p:cNvSpPr/>
            <p:nvPr/>
          </p:nvSpPr>
          <p:spPr>
            <a:xfrm>
              <a:off x="5076720" y="4724280"/>
              <a:ext cx="2868480" cy="576360"/>
            </a:xfrm>
            <a:prstGeom prst="wedgeRoundRectCallout">
              <a:avLst>
                <a:gd name="adj1" fmla="val 38986"/>
                <a:gd name="adj2" fmla="val 10867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怎样比较更快一些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1" name="Picture 15" descr="男天使"/>
            <p:cNvPicPr/>
            <p:nvPr/>
          </p:nvPicPr>
          <p:blipFill>
            <a:blip r:embed="rId3"/>
            <a:stretch/>
          </p:blipFill>
          <p:spPr>
            <a:xfrm>
              <a:off x="7619760" y="5013360"/>
              <a:ext cx="1524240" cy="1414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dc:language>en-US</dc:language>
  <cp:lastModifiedBy/>
  <dcterms:modified xsi:type="dcterms:W3CDTF">2018-09-07T06:35:32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67</vt:lpwstr>
  </property>
</Properties>
</file>